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043-AF75-4073-AAFA-3756C749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6CA-8DD0-4D6C-B382-DAFE93D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4EC-230A-4270-81E6-60E4D85B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E77-88BB-40EF-B569-12B0466E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B4A5-2416-4F13-93E8-2F471BA6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FDAF-CAE5-4CDC-84E5-1CAF80C8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B78B-3460-456B-BAA7-6E076436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8A37-0E75-4B3E-AE10-FAA7E22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004E-4AB5-4E16-965C-115FB14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C911-8119-495A-B3EB-8B7269A5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886B-058C-4695-82B1-0F2CDB3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34E-9752-457A-810D-33107B5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941B-2597-4AD2-ADE5-E35D5382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6302-A74F-4635-A7EB-50C125FA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549C-4315-41FE-B687-95A76617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09AE-5FDE-48CC-9286-3B822574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777-6121-4B85-93A5-69FBE001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519-3117-4C03-A1EC-22A23EDB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694-0430-415F-A6F2-40471A8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E62-C23B-4923-8299-7B0D0B9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784-953F-485B-92CD-F902A0DB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CBE-CE7F-43D4-93CC-1E44613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832-EA50-4C99-9405-307A40D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930-6B9D-43F1-9A55-F22113D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A64-2663-4E1B-B402-F5F5B047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7CC7-AA96-456A-8CFD-13BACB4C3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nseofsmell.org/funfacts_main.php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now Your No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Your Sniff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Amanda Morgan MS, OTR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ly Landry OTA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/28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ing Your N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rain Gym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un Facts Triv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mells that you like/Smells that you don’t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via G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must decide whether the answer is true or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must decide on ONE answer or the other team gets a chance to steal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rrect answer receives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14040" y="26665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ense of smell is best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eyesight, your sense of smell worsens with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nose can only recognize 10 different sm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s smell great to every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have a better sense of smell than 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nse of taste is greatly influenced by our sense of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erson gives off a distinct smell just like everyone has distinct  fingerpr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 have a terrible sense of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ells can help you remember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longed exposure to harsh chemicals makes your sense of smell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ell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group member what they like to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group member what they don’t like to sm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e of Smell Institute. Retrieved on January 22, 2010,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senseofsmell.org/funfacts_main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23:53:53Z</dcterms:created>
  <dc:creator>User CFCC</dc:creator>
  <dc:description/>
  <dc:language>en-US</dc:language>
  <cp:lastModifiedBy>otusers</cp:lastModifiedBy>
  <dcterms:modified xsi:type="dcterms:W3CDTF">2010-02-15T15:56:29Z</dcterms:modified>
  <cp:revision>10</cp:revision>
  <dc:subject/>
  <dc:title>Know About Your Nose!</dc:title>
</cp:coreProperties>
</file>